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D403-0DF8-484D-98A5-C84766D88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0F2D-2F9A-4DE3-B8C6-D89B1F83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1DCE-2A1E-47EA-ABE8-56652270A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97DA-018F-438B-896A-F3C36F0E1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D1A1-1B73-4FD4-874A-109C5239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510F-D7FF-4E2F-9258-41A06AE2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FB83-FB77-4AAF-AC77-C5BF26C4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10CF-396D-45C7-8C32-984F8A7F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EADF-4DB3-44F5-B765-420823A2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4D9F-ED43-4EB6-BDE7-417746A6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3C4C-40D8-47BC-87A3-FD5696F5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835D-C776-46D9-BFC8-C536E7CD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7D8AD-D1A7-4115-9C70-67160DA80530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unitPlan/Rubric.doc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should society deal with lawbreakers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efore You Begi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terest Inventor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rainstorm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acher/Group Confere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ile Work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search Law Cod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are/ Contrast Elements of Law Codes: Pros and C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ecklist for Preparing PowerPoi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ubric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acher/Group Confere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fter Project Is Complete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search Rubric – Grade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werPoint Rubric – Grade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werPoint Present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gument whether your law code would apply to a modern instanc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JazzTextExtended"/>
                <a:ea typeface="JazzTextExtended"/>
              </a:rPr>
              <a:t></a:t>
            </a:r>
            <a:endParaRPr b="0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3" name="Picture 4" descr="MCj02908850000[1]"/>
          <p:cNvPicPr/>
          <p:nvPr/>
        </p:nvPicPr>
        <p:blipFill>
          <a:blip r:embed="rId1"/>
          <a:stretch/>
        </p:blipFill>
        <p:spPr>
          <a:xfrm>
            <a:off x="1447920" y="1450800"/>
            <a:ext cx="5943600" cy="54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Curlz MT"/>
              </a:rPr>
              <a:t>Unit Ques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are common elements of legal systems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w does a given legal system affect the people living under it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w have early legal systems acted as precedents to legal systems today?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Curlz MT"/>
              </a:rPr>
              <a:t>Content Ques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-51804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onotype Corsiva"/>
              </a:rPr>
              <a:t>What is The Code of Hammurabi?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518040" indent="-51804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onotype Corsiva"/>
              </a:rPr>
              <a:t>What are The Ten Commandments?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518040" indent="-51804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onotype Corsiva"/>
              </a:rPr>
              <a:t>What is Legalism?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518040" indent="-51804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onotype Corsiva"/>
              </a:rPr>
              <a:t>What are The Twelve Tables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518040" indent="-51804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onotype Corsiva"/>
              </a:rPr>
              <a:t>What is Draconian Law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2147760" cy="2633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76720" y="1371600"/>
            <a:ext cx="2000160" cy="2666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371600" y="4038480"/>
            <a:ext cx="2000160" cy="2667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648320" y="4114800"/>
            <a:ext cx="1904760" cy="2590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172200" y="1447920"/>
            <a:ext cx="19717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Monotype Corsiva"/>
              </a:rPr>
              <a:t>Requirements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Monotype Corsiva"/>
              </a:rPr>
              <a:t>You will development a PowerPoint presentation to take a stand on how successful your assigned law system was in dealing with lawbreakers.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Monotype Corsiva"/>
              </a:rPr>
              <a:t>This PowerPoint will support an argument/debate you will have in class.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1"/>
              </a:rPr>
              <a:t>Rubric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22:39:13Z</dcterms:created>
  <dc:creator>Valued Gateway Client</dc:creator>
  <dc:description/>
  <dc:language>en-US</dc:language>
  <cp:lastModifiedBy>Valued Gateway Client</cp:lastModifiedBy>
  <dcterms:modified xsi:type="dcterms:W3CDTF">2009-11-04T23:30:44Z</dcterms:modified>
  <cp:revision>16</cp:revision>
  <dc:subject/>
  <dc:title>How should society deal with lawbreakers?</dc:title>
</cp:coreProperties>
</file>